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95D-2235-44A7-8972-2F79DF14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D72-BFBD-4A68-82F6-62BF243B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97D-744E-499F-9F2B-6DB36A6E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3FE-27F3-423E-BB2B-DFC6118C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7B7-3035-485A-94FA-8C060191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CEA-01C2-4B72-9416-EF9729EA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9D5-599D-4E50-BB8C-17DB1C7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97D-1D59-4483-AFA5-24D3CF2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131-BA7B-46CE-B4B7-C51EEA33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BAD-AC87-4BC6-A550-187397B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617-5017-4E27-B1DA-DBD503B2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46E-CF33-4887-AC08-8E6A7B5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D1C-F68D-4DF4-92A8-FD0DBC63B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Pelican_lakes_entrance02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Pelican lakes entranc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3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76720" y="76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53080" y="2362320"/>
            <a:ext cx="259092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5089680"/>
            <a:ext cx="2666880" cy="176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5257800"/>
            <a:ext cx="266688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289584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52280" y="2286000"/>
            <a:ext cx="22100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6477120" y="0"/>
          <a:ext cx="2666880" cy="18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0"/>
                    <a:ext cx="266688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3276720" y="5126040"/>
            <a:ext cx="2666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0400" y="648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2819520" cy="148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602400" y="243828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194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0" y="5037120"/>
            <a:ext cx="2666880" cy="174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200400" y="5037120"/>
            <a:ext cx="2716200" cy="182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459480" y="5037120"/>
            <a:ext cx="26845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10-02-08T19:00:10Z</dcterms:modified>
  <cp:revision>11</cp:revision>
  <dc:subject/>
  <dc:title>Slide 1</dc:title>
</cp:coreProperties>
</file>